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D41B8-86CF-420E-9BC6-7A3FAEFB3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CDC9C-6BDF-40A3-944B-052EC9CCE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CAEA5-9D74-4737-9701-83F03D5E9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10474-A473-44DE-9069-7C7713F94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F6384-AE4E-4B26-B1B7-B75B8ADC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BC0A4-8C3A-44BF-8349-7C4AD2169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C6D2-BE89-4300-BCC9-7C211CC6C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B045-A144-45CC-B8A9-61F55E87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EECC-7D4C-4B28-A92C-AE0A1427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959F-1FFD-4842-8FE2-940F74B5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86BC-1DA4-4405-9206-A610F9795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3C00-CBF8-4A0C-840F-7285F71EF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CC06-6DC2-4532-BB9E-F97CA12C43A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Employment Structures</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Case Stu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mployment Structu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the percentage of people working in each sector to help describe how developed a country 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called the </a:t>
            </a:r>
            <a:r>
              <a:rPr b="1" lang="en-US" sz="3200" spc="-1" strike="noStrike">
                <a:solidFill>
                  <a:srgbClr val="000000"/>
                </a:solidFill>
                <a:latin typeface="Calibri"/>
              </a:rPr>
              <a:t>employment structur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looking back through history you can also see how one single country has developed by looking at the changes in their employment struc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EDC’s Vs LEDC’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e developed a country becomes the more it will rely on secondary and, in particular, tertiary industr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ss developed country will be characterised by a greater percentage of the population in primary industries, usually farm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thiopia: LEDC</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mary:</a:t>
            </a:r>
            <a:r>
              <a:rPr b="0" lang="en-US" sz="3200" spc="-1" strike="noStrike">
                <a:solidFill>
                  <a:srgbClr val="000000"/>
                </a:solidFill>
                <a:latin typeface="Calibri"/>
              </a:rPr>
              <a:t> 88%</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ary: </a:t>
            </a:r>
            <a:r>
              <a:rPr b="0" lang="en-US" sz="3200" spc="-1" strike="noStrike">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rtiary:</a:t>
            </a:r>
            <a:r>
              <a:rPr b="0" lang="en-US" sz="3200" spc="-1" strike="noStrike">
                <a:solidFill>
                  <a:srgbClr val="000000"/>
                </a:solidFill>
                <a:latin typeface="Calibri"/>
              </a:rPr>
              <a:t> 1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ternary:</a:t>
            </a:r>
            <a:r>
              <a:rPr b="0" lang="en-US" sz="3200" spc="-1" strike="noStrike">
                <a:solidFill>
                  <a:srgbClr val="000000"/>
                </a:solidFill>
                <a:latin typeface="Calibri"/>
              </a:rPr>
              <a:t>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Like?</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opia is a typical example of a developing country, in terms of its employment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ajority of the population work in the primary se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se are subsistence farmers, who basically grow enough for themselves and their family, but little mo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don't have a great deal, if any, left over to sell at the mark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opia has very little manufacturing industry, as it does not have the raw materials available, and lacks sufficient investment and technology to exploit the natural resources that it does ha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work in the tertiary industry, primarily in the main cities, such as Addis Ababa, where there are hospitals, schools and other professional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der of the country has very poor access to education and health care due to this lack of people in the tertiary sec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United Kingdom: MEDC</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mary:</a:t>
            </a:r>
            <a:r>
              <a:rPr b="0" lang="en-US" sz="3200" spc="-1" strike="noStrike">
                <a:solidFill>
                  <a:srgbClr val="000000"/>
                </a:solidFill>
                <a:latin typeface="Calibri"/>
              </a:rPr>
              <a:t> 3%</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ary: </a:t>
            </a:r>
            <a:r>
              <a:rPr b="0" lang="en-US" sz="3200" spc="-1" strike="noStrike">
                <a:solidFill>
                  <a:srgbClr val="000000"/>
                </a:solidFill>
                <a:latin typeface="Calibri"/>
              </a:rPr>
              <a:t>2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rtiary: </a:t>
            </a:r>
            <a:r>
              <a:rPr b="0" lang="en-US" sz="3200" spc="-1" strike="noStrike">
                <a:solidFill>
                  <a:srgbClr val="000000"/>
                </a:solidFill>
                <a:latin typeface="Calibri"/>
              </a:rPr>
              <a:t>7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ternary: </a:t>
            </a:r>
            <a:r>
              <a:rPr b="0" lang="en-US" sz="3200" spc="-1" strike="noStrike">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Like?</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nited Kingdom exhibits the employment structure of a well-developed country.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umber of people working in the primary sector has steadily decreased as mines have closed and technology has meant fewer people are requir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umber of people working in the secondary sector is still reasonably high, but has also been falling steadily as new, more efficient technology has again meant less people being need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a:t>
            </a:r>
            <a:endParaRPr b="0" lang="en-US" sz="4400" spc="-1" strike="noStrike">
              <a:solidFill>
                <a:srgbClr val="000000"/>
              </a:solidFill>
              <a:latin typeface="Calibri"/>
            </a:endParaRPr>
          </a:p>
        </p:txBody>
      </p:sp>
      <p:sp>
        <p:nvSpPr>
          <p:cNvPr id="58"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massive growth has been in the tertiary sector, where huge numbers of jobs have been created.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s is not just in the traditional tertiary industries like teaching and health care, but also in the tourist industry, the computer industry and the financial industry.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re has also been the introduction of the quaternary sector, although this still takes up a very small percentage of the overall employment structure of the country.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3:21:21Z</dcterms:created>
  <dc:creator>Dell_02</dc:creator>
  <dc:description/>
  <dc:language>en-US</dc:language>
  <cp:lastModifiedBy>Dell_02</cp:lastModifiedBy>
  <dcterms:modified xsi:type="dcterms:W3CDTF">2011-01-27T03:44:18Z</dcterms:modified>
  <cp:revision>2</cp:revision>
  <dc:subject/>
  <dc:title>Employment Structures</dc:title>
</cp:coreProperties>
</file>